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0"/>
          <p:cNvSpPr/>
          <p:nvPr/>
        </p:nvSpPr>
        <p:spPr>
          <a:xfrm>
            <a:off x="1143000" y="380880"/>
            <a:ext cx="7086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thoughts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ing Quality Assess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39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40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Oval 41"/>
          <p:cNvSpPr/>
          <p:nvPr/>
        </p:nvSpPr>
        <p:spPr>
          <a:xfrm>
            <a:off x="3200400" y="3220920"/>
            <a:ext cx="2743200" cy="11224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2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43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4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Line 45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Line 46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47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48"/>
          <p:cNvSpPr/>
          <p:nvPr/>
        </p:nvSpPr>
        <p:spPr>
          <a:xfrm>
            <a:off x="3276720" y="4952880"/>
            <a:ext cx="2743200" cy="121932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50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1"/>
          <p:cNvSpPr/>
          <p:nvPr/>
        </p:nvSpPr>
        <p:spPr>
          <a:xfrm flipH="1" flipV="1">
            <a:off x="2537280" y="3074040"/>
            <a:ext cx="861480" cy="22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1600200" y="380880"/>
            <a:ext cx="6477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rder to assess we must elicit, observe, and interpret external indicators of an internal stat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2184480" cy="163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91" name="Rectangle 6" descr=""/>
          <p:cNvPicPr/>
          <p:nvPr/>
        </p:nvPicPr>
        <p:blipFill>
          <a:blip r:embed="rId2"/>
          <a:stretch/>
        </p:blipFill>
        <p:spPr>
          <a:xfrm>
            <a:off x="2511360" y="2968560"/>
            <a:ext cx="46576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1371600" y="3049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Meth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stry of classroom assessment emerges when teachers orchestrate a careful alignment among user information needs, achievement targets, and assessment metho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. p.76)</a:t>
            </a:r>
            <a:endParaRPr b="0" lang="en-US" sz="1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3276720" y="762120"/>
            <a:ext cx="1895400" cy="368280"/>
          </a:xfrm>
          <a:prstGeom prst="rightArrow">
            <a:avLst>
              <a:gd name="adj1" fmla="val 50000"/>
              <a:gd name="adj2" fmla="val 257355"/>
            </a:avLst>
          </a:prstGeom>
          <a:gradFill rotWithShape="0">
            <a:gsLst>
              <a:gs pos="0">
                <a:srgbClr val="003731"/>
              </a:gs>
              <a:gs pos="50000">
                <a:srgbClr val="00b7a5"/>
              </a:gs>
              <a:gs pos="100000">
                <a:srgbClr val="00373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905120" y="5951520"/>
            <a:ext cx="5105160" cy="906480"/>
          </a:xfrm>
          <a:prstGeom prst="rect">
            <a:avLst/>
          </a:prstGeom>
          <a:solidFill>
            <a:srgbClr val="ee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422440" y="6172200"/>
            <a:ext cx="3464280" cy="454680"/>
          </a:xfrm>
          <a:prstGeom prst="rect">
            <a:avLst/>
          </a:prstGeom>
          <a:solidFill>
            <a:srgbClr val="cccccc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Tekton Plus Regular"/>
              </a:rPr>
              <a:t>form follows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3240000" y="3809880"/>
            <a:ext cx="216072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Response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ay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Assessment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1430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fore …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 rot="17779800">
            <a:off x="7511760" y="3918240"/>
            <a:ext cx="45720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2"/>
          <a:stretch/>
        </p:blipFill>
        <p:spPr>
          <a:xfrm>
            <a:off x="380880" y="5867280"/>
            <a:ext cx="1460520" cy="6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"/>
          <p:cNvPicPr/>
          <p:nvPr/>
        </p:nvPicPr>
        <p:blipFill>
          <a:blip r:embed="rId3"/>
          <a:stretch/>
        </p:blipFill>
        <p:spPr>
          <a:xfrm rot="3133200">
            <a:off x="3617640" y="5072040"/>
            <a:ext cx="82548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sawzall_large"/>
          <p:cNvPicPr/>
          <p:nvPr/>
        </p:nvPicPr>
        <p:blipFill>
          <a:blip r:embed="rId4"/>
          <a:stretch/>
        </p:blipFill>
        <p:spPr>
          <a:xfrm>
            <a:off x="7162920" y="2362320"/>
            <a:ext cx="1473120" cy="147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5">
            <a:grayscl/>
          </a:blip>
          <a:stretch/>
        </p:blipFill>
        <p:spPr>
          <a:xfrm rot="18412800">
            <a:off x="5562720" y="4876200"/>
            <a:ext cx="1685880" cy="168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6">
            <a:grayscl/>
          </a:blip>
          <a:srcRect l="0" t="24546" r="7274" b="20909"/>
          <a:stretch/>
        </p:blipFill>
        <p:spPr>
          <a:xfrm>
            <a:off x="380880" y="4267080"/>
            <a:ext cx="220212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 or F:  A barometer is a device to measure air pressure.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) A device to measure air pressure is called a  ___________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Which of the following is a device to measure air pressure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anometer    __ psychrometer   __ barometer    __ thermometer</a:t>
            </a:r>
            <a:endParaRPr b="0" lang="en-US" sz="1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) Show how it is possible to measure the height of a tall building with a barometer.  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88680" y="243000"/>
            <a:ext cx="56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Selected Response / Short Answer …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143000" y="7621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 Pressure …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6"/>
          <p:cNvGrpSpPr/>
          <p:nvPr/>
        </p:nvGrpSpPr>
        <p:grpSpPr>
          <a:xfrm>
            <a:off x="4724280" y="3581280"/>
            <a:ext cx="2057400" cy="1067040"/>
            <a:chOff x="4724280" y="3581280"/>
            <a:chExt cx="2057400" cy="1067040"/>
          </a:xfrm>
        </p:grpSpPr>
        <p:sp>
          <p:nvSpPr>
            <p:cNvPr id="70" name="AutoShape 2"/>
            <p:cNvSpPr/>
            <p:nvPr/>
          </p:nvSpPr>
          <p:spPr>
            <a:xfrm>
              <a:off x="4724280" y="3581280"/>
              <a:ext cx="2057400" cy="1067040"/>
            </a:xfrm>
            <a:prstGeom prst="wedgeRoundRectCallout">
              <a:avLst>
                <a:gd name="adj1" fmla="val -59250"/>
                <a:gd name="adj2" fmla="val 114092"/>
                <a:gd name="adj3" fmla="val 16667"/>
              </a:avLst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5085720" y="3749040"/>
              <a:ext cx="1355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pple Chancery"/>
                </a:rPr>
                <a:t>Ready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Rectangle 8"/>
          <p:cNvSpPr/>
          <p:nvPr/>
        </p:nvSpPr>
        <p:spPr>
          <a:xfrm>
            <a:off x="11430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’s another test …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6" descr="020.JPG"/>
          <p:cNvPicPr/>
          <p:nvPr/>
        </p:nvPicPr>
        <p:blipFill>
          <a:blip r:embed="rId1"/>
          <a:stretch/>
        </p:blipFill>
        <p:spPr>
          <a:xfrm>
            <a:off x="3352680" y="5256360"/>
            <a:ext cx="2256120" cy="1601640"/>
          </a:xfrm>
          <a:prstGeom prst="rect">
            <a:avLst/>
          </a:prstGeom>
          <a:ln w="0">
            <a:noFill/>
          </a:ln>
        </p:spPr>
      </p:pic>
      <p:sp>
        <p:nvSpPr>
          <p:cNvPr id="74" name="Oval Callout 8"/>
          <p:cNvSpPr/>
          <p:nvPr/>
        </p:nvSpPr>
        <p:spPr>
          <a:xfrm>
            <a:off x="152280" y="5181480"/>
            <a:ext cx="2362320" cy="762120"/>
          </a:xfrm>
          <a:prstGeom prst="wedgeEllipseCallout">
            <a:avLst>
              <a:gd name="adj1" fmla="val 87157"/>
              <a:gd name="adj2" fmla="val 28615"/>
            </a:avLst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’ll ask the questions around her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90720" y="1752480"/>
            <a:ext cx="5384520" cy="332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81080" y="2666880"/>
            <a:ext cx="2652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048680" y="2195640"/>
            <a:ext cx="51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does not belo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1430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Here’s another test …. </a:t>
            </a: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6" descr="020.JPG"/>
          <p:cNvPicPr/>
          <p:nvPr/>
        </p:nvPicPr>
        <p:blipFill>
          <a:blip r:embed="rId1"/>
          <a:stretch/>
        </p:blipFill>
        <p:spPr>
          <a:xfrm>
            <a:off x="3352680" y="5256360"/>
            <a:ext cx="225612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rget =&gt; Evidence =&gt; Assessment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42640" y="3580920"/>
            <a:ext cx="77914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Fact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Concept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Disposition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12000" y="2133720"/>
            <a:ext cx="64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 when students are achiev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kinds of targets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57400" y="1981080"/>
            <a:ext cx="448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Response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y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Assessment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440" y="1981080"/>
            <a:ext cx="33292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066680" y="8380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here’s a matching test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020.JPG"/>
          <p:cNvPicPr/>
          <p:nvPr/>
        </p:nvPicPr>
        <p:blipFill>
          <a:blip r:embed="rId1"/>
          <a:stretch/>
        </p:blipFill>
        <p:spPr>
          <a:xfrm>
            <a:off x="3352680" y="5256360"/>
            <a:ext cx="225612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ther words: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133720"/>
          <a:ext cx="8076960" cy="4378320"/>
        </p:xfrm>
        <a:graphic>
          <a:graphicData uri="http://schemas.openxmlformats.org/drawingml/2006/table">
            <a:tbl>
              <a:tblPr/>
              <a:tblGrid>
                <a:gridCol w="1616040"/>
                <a:gridCol w="1614240"/>
                <a:gridCol w="1616400"/>
                <a:gridCol w="1614240"/>
                <a:gridCol w="16160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Selected Respon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Ess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Performance 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Personal </a:t>
                      </a:r>
                      <a:r>
                        <a:rPr b="0" lang="en-US" sz="16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F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Conc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Sk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Dis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6:41:19Z</dcterms:created>
  <dc:creator>Mark Roddy</dc:creator>
  <dc:description/>
  <cp:keywords/>
  <dc:language>en-US</dc:language>
  <cp:lastModifiedBy>Seattle University</cp:lastModifiedBy>
  <cp:lastPrinted>2006-09-29T20:33:13Z</cp:lastPrinted>
  <dcterms:modified xsi:type="dcterms:W3CDTF">2009-01-30T18:54:45Z</dcterms:modified>
  <cp:revision>30</cp:revision>
  <dc:subject/>
  <dc:title>Some thoughts on Chapter 4: Understanding Assessment Alternatives</dc:title>
</cp:coreProperties>
</file>